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73A-412A-43E3-8ABB-EAA0D53C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630-FE68-474B-B13D-DAC61273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1A2-A329-44F9-9650-FDFE8147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444-3B3B-44F0-9D63-0873096D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5DD-5FAE-425D-B5DC-269CA29C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DDA-80FB-480E-BE63-21DD1422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555-C673-41FE-9FAC-19447EF0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413-D05B-47B0-9192-85B1E9A7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E5D-4598-4682-BCEC-386E03FA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BAA-A3AB-4814-9976-63D869EE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E7A-C0CC-4C2C-BB1D-15A86D52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BE1-382F-4CB7-AEF7-1FA7DCD7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8969-D00E-4583-8E97-7DF9B7A03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45118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2:54:17Z</dcterms:created>
  <dc:creator>2012Payneja</dc:creator>
  <dc:description/>
  <dc:language>en-US</dc:language>
  <cp:lastModifiedBy>2012Payneja</cp:lastModifiedBy>
  <dcterms:modified xsi:type="dcterms:W3CDTF">2009-11-05T13:22:08Z</dcterms:modified>
  <cp:revision>3</cp:revision>
  <dc:subject/>
  <dc:title>Slide 1</dc:title>
</cp:coreProperties>
</file>